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0A2-584B-4975-9CFB-5D9E3FF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FC7-6BA5-4DAB-996E-A58CE80F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D62-17AD-44BE-BD43-8490A23B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C0A-3A60-4FF0-85B3-D48DD852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4AA6-0755-4E90-AA8D-E73E0308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AC7-55F3-4AF1-BBAC-80B93F0B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8F41-3E29-4C71-8E8B-F43BC17C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7E4-55B6-400A-A701-F8483BA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42DF-5BE9-4C69-8F8D-28FB70DE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735E-8F01-444C-8A9C-8DEC281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420-2995-4056-B219-864ACB7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1D6-B090-4213-9EE4-DA4D495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DF22-C53A-41C0-A8BF-3BF4C8A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917A-09E7-4CCC-A922-1ABF895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F937-574A-4FFF-88DF-F7DA374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9A68-AB6F-46EF-88B2-2422B99B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DC6D-0D02-4177-8EBD-AD409D0D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4EF-880F-4643-AB5E-964E62EE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1B7-433B-4665-8FF6-8924EA05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45B-F325-4D7D-AE30-782450FE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371-124B-4002-8F2E-018D6B5F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EC0-FF70-4837-82FF-C485EE9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9A1-F602-4580-8574-F79C89F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DD5-AE26-44F2-B4F3-16E0FAC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4E25-7902-421C-AF69-643BF03E4B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E094-8487-4FA5-BD13-983BE47721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Педагогический университет «1 сентября» , г. Москва</a:t>
            </a:r>
            <a:endParaRPr b="0" lang="en-US" sz="2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Tahoma"/>
              </a:rPr>
              <a:t>Полезно знать 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(на фестиваль исследовательских и творческих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работ учащихся «Портфолио»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934b"/>
                </a:solidFill>
                <a:latin typeface="Tahoma"/>
              </a:rPr>
              <a:t>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Выполнила:  ученица 11 класс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МОУ «Половинская сош»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Целинного р-на  Курганской обл.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9900"/>
                </a:solidFill>
                <a:latin typeface="Tahoma"/>
              </a:rPr>
              <a:t>Черепанова Тамара Игоревн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Руководитель:  учител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математики высшей категории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1" lang="en-US" sz="2200" spc="-1" strike="noStrike">
                <a:solidFill>
                  <a:srgbClr val="009900"/>
                </a:solidFill>
                <a:latin typeface="Tahoma"/>
              </a:rPr>
              <a:t>Грохотова Роза Оттовн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ahoma"/>
              </a:rPr>
              <a:t>2010 /2011 учебный год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9F3-9DD5-4951-9167-41B49DC4A835}" type="slidenum">
              <a:t>1</a:t>
            </a:fld>
          </a:p>
        </p:txBody>
      </p:sp>
    </p:spTree>
  </p:cSld>
  <p:transition advTm="14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одолжение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183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веду пример двух формул , которые могут привести к сужению ОДЗ уравнения и, следовательно, потери кор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евые части этих формул имеют смысл, если функции имеют одинаковые знаки, а правые - только при неотрицательных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116000" y="2781360"/>
                <a:ext cx="60418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042920" y="3718080"/>
                <a:ext cx="67690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64F-77CD-4896-AA7D-B8CAB5D3CA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имер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320" y="1125000"/>
            <a:ext cx="8591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ерное решение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ений не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учился один корень, но очевидно, что х=-1 – тоже является корнем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24000" y="1700280"/>
                <a:ext cx="3743280" cy="31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219640" y="3141720"/>
                <a:ext cx="309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CBC-D9F2-42A5-9CAD-E6043C8C95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Верное решение уравнения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540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1 = 0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 1 или х = -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х = 1, х =-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х=-2, х=-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50920" y="1197000"/>
                <a:ext cx="2881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5280" y="4292640"/>
                <a:ext cx="55450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9AA-6BEC-4F19-A5D7-8D5865330FF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6630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ичины потери корней 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подробнее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*Если обе части уравнения разделить на выражение с переменной </a:t>
            </a:r>
            <a:r>
              <a:rPr b="1" i="1" lang="en-US" sz="3200" spc="-1" strike="noStrike">
                <a:solidFill>
                  <a:srgbClr val="009900"/>
                </a:solidFill>
                <a:latin typeface="Tahoma"/>
              </a:rPr>
              <a:t>m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1" i="1" lang="en-US" sz="3200" spc="-1" strike="noStrike">
                <a:solidFill>
                  <a:srgbClr val="009900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могут быть потеряны в качестве корней те значени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которых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9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 этом потери корней не произойдет, есл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 обращается в нуль ни при каки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 ил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0 лишь при тех значения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торые корнями данного уравнения не являют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8E0-FE14-425B-9305-E217D81EA1AE}" type="slidenum">
              <a:t>13</a:t>
            </a:fld>
          </a:p>
        </p:txBody>
      </p:sp>
    </p:spTree>
  </p:cSld>
  <p:transition advTm="14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имер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Решите уравнение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х – 4)(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х – 1) = х –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бы «сократить» на множитель (х - 4), то произойдет потеря корня х =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льзя допускать сужения ОДЗ, разделив обе части на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ужно перенести члены уравнения в одну часть, вынести общий множитель за скобки и далее решать уравнение, приравнивая поочередно каждый множитель к нулю, следя при этом, чтобы другие множители  не теряли  смыс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D55-8556-43FA-BD4B-ED38BFD0C347}" type="slidenum">
              <a:t>14</a:t>
            </a:fld>
          </a:p>
        </p:txBody>
      </p:sp>
    </p:spTree>
  </p:cSld>
  <p:transition advTm="14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ерное решение уравн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х – 4)(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х – 1) = х – 4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х – 4)(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х – 1)–(х – 4)=0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х – 4)(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х – 1– 1) =0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х – 4)(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х – 2) =0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– 4=0  или  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х – 2=0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 = 4,             х =-1  или  х =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-1; 2;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р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ите уравнение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х+2)(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4х –4)=х+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6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х=-2, х=-5, х=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81C-39A8-401A-805D-B9014BEA16B5}" type="slidenum">
              <a:t>15</a:t>
            </a:fld>
          </a:p>
        </p:txBody>
      </p:sp>
    </p:spTree>
  </p:cSld>
  <p:transition advTm="14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ичины появления посторонних корней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Расширение ОДЗ урав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Умножение обеих часте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уравнения на выражение 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переменн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Возведение обеих ча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уравнения в чётную степ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90E-2E35-44DB-80AC-8224CCB52C03}" type="slidenum">
              <a:t>16</a:t>
            </a:fld>
          </a:p>
        </p:txBody>
      </p:sp>
    </p:spTree>
  </p:cSld>
  <p:transition advTm="14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Расширение ОДЗ 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подробнее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120" indent="-612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ведение подобных чле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 результате приведение подобных слагаемых какие-то члены уравнения «взаимно уничтожаются», то ОДЗ уравнения может расшириться и некоторые значения переменной могут быть получе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ачестве корней, хотя ранее они не входили в область определения урав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р: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З: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300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рень х=4-посторонний. Ответ: корней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1835280" y="5229360"/>
                <a:ext cx="4465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451640" y="5121360"/>
                <a:ext cx="1370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B22-FFD6-46B6-B58A-382B8E258E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чиной появления постороннего кор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явилось расширение ОДЗ уравнение после взаимного уничтожение дробей. Уравн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х = 12 имеет ОДЗ, включающее в себя все действительные чис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ры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рней н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=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971640" y="3213000"/>
                <a:ext cx="5181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042920" y="4076640"/>
                <a:ext cx="4753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187280" y="5013360"/>
                <a:ext cx="4248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8CA-1C20-447D-8E49-3EA0110C825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Расширение ОДЗ 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подробнее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-612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Сокращение дроби на выражение, содержащее переменну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р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З: все числа, кроме 3.  Если сократить на (х-3):    х-3+7х=21;  8х=24;  х=3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чение х=3, не входит в ОДЗ, поэтому не может быть корнем. Сокращение дроби привело к расширению ОДЗ и появлен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ороннего корня.     Ответ: корней 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68360" y="2421000"/>
                <a:ext cx="381636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82B-E427-46A2-8EDD-A584BFFDB1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91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934b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..........................................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.......................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-5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ойства уравнен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....................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-7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чины потери корней..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........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-15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явления посторонних корне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-23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самостоятельной работ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26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емая литератур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.............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7 слай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47C-1BB7-44B8-A856-AAC810A1C390}" type="slidenum">
              <a:t>2</a:t>
            </a:fld>
          </a:p>
        </p:txBody>
      </p:sp>
    </p:spTree>
  </p:cSld>
  <p:transition advTm="14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934b"/>
                </a:solidFill>
                <a:latin typeface="Tahoma"/>
              </a:rPr>
              <a:t>Расширение ОДЗ 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(подробнее)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нение в ходе упрощения урав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формул, расширяющих ОДЗ урав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ойством расширения ОДЗ уравнений обладают некоторые формулы, связан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понятием квадратного корня (корня с четным показателе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83D-68F1-4C80-AEB5-2908B0F94212}" type="slidenum">
              <a:t>20</a:t>
            </a:fld>
          </a:p>
        </p:txBody>
      </p:sp>
    </p:spTree>
  </p:cSld>
  <p:transition advTm="14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40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Формулы, расширяющие ОДЗ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258920" y="1125360"/>
                <a:ext cx="61927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332000" y="3933720"/>
                <a:ext cx="71373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258920" y="2060640"/>
                <a:ext cx="35290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476360" y="4869000"/>
                <a:ext cx="3600360" cy="17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30C-F79B-4BC4-A6B5-DADF83D90E7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Умножение обеих частей уравнения на выражения с переменной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р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З: все числа больше, либо равные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е части уравнения умножить на (х-6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 это уравнение имеет два корня х=6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=7. Корень х=6 –посторонний. Ответ: х=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724360" y="2276640"/>
                <a:ext cx="2303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50920" y="4076640"/>
                <a:ext cx="68403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FB2-B28B-4159-AA50-896B9C42ED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Возведение обеих частей уравнения в квадрат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36504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ведение обеих частей уравнения в квадрат может приводить к появлению «посторонних» для данного уравнения корней. Чтобы «отсеять» лишние корни, необходимо все полученные значения х проверить на «звание корня» подстановкой в данное уравн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36504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Пример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ите уравне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36504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корней 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5661000"/>
                <a:ext cx="34560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D36-70FA-48D8-BC43-C9C77255975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Для самостоятельной работы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1. Равносильны ли уравн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-5=0;   (х-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;   (х-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0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2. При каких значениях р равноси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уравн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) 9х+4=22  и  10х-8+р=1-р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) 9х+4=22  и  9х+4+р=22+р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х+4=22  и  (9х+4)р=22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ы: а) при р=-5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) при р-любом действительн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) при р отличном от ну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A15-8CB1-44CB-A111-F7DB4501D04A}" type="slidenum">
              <a:t>24</a:t>
            </a:fld>
          </a:p>
        </p:txBody>
      </p:sp>
    </p:spTree>
  </p:cSld>
  <p:transition advTm="14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Для самостоятельной работы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.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корней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корней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х=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).                                            Ответ: х=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258920" y="1484280"/>
                <a:ext cx="5400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187280" y="3213000"/>
                <a:ext cx="3888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332000" y="4437000"/>
                <a:ext cx="3671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403280" y="5445000"/>
                <a:ext cx="36734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419-EFD8-4837-B2C3-F511AA57B67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Для самостоятельной работы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4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).                                       Ответ: х=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).                                  Ответ: корней не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).                                  Ответ: корней не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).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х=0, х=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1258920" y="1700280"/>
                <a:ext cx="2995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1258920" y="2708280"/>
                <a:ext cx="3456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1332000" y="3716280"/>
                <a:ext cx="345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258920" y="4992840"/>
                <a:ext cx="5905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2DB-CA52-496B-9F99-DD9C345073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Используемая литература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гебра: Экспресс-репетитор д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готовки к ГИА: «Уравнения», «Системы уравнений»:9 кл./Г.В. Сычева, Н.Б. Гусева, В.А. Гусев. -М.: АСТ: Астрель: Полиграфиздат, 2010.-126 с. Стр.5-1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ематика: Полный справочник 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.Г.Мордкович, В.И. Глизбург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.Ю. Лаврентьева. -М.: АСТ: Астрель; Владимир: ВТК, 2010.-351 с.: и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. 131-16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474-C1ED-4F96-8909-A0F6C1FED1A0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Введение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341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анная презентация поможет учителям математики и учащимся, при подготовке к сдаче ГИА в 9 классе по теме «Рациональные уравнени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ней отражены свойства решения уравнений, «неприятности», которые ожидают учащихся при решении уравнений: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это потеря корней и появление посторонних для данного уравнения кор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EBB-2337-428D-A50E-9092866F1300}" type="slidenum">
              <a:t>3</a:t>
            </a:fld>
          </a:p>
        </p:txBody>
      </p:sp>
    </p:spTree>
  </p:cSld>
  <p:transition advTm="14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Основные понятия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-6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Уравнение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азывается равенство , содержащее переменную (неизвестную) величин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80" indent="-6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Область допустимых значений (ОДЗ уравнения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называется множество значений переменной, при которых все члены уравнений имеют смысл. ОДЗ переменной в уравнении называют еще областью определения урав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FF3-EED7-407C-A168-2319761D9CCA}" type="slidenum">
              <a:t>4</a:t>
            </a:fld>
          </a:p>
        </p:txBody>
      </p:sp>
    </p:spTree>
  </p:cSld>
  <p:transition advTm="14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Основные понятия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Корнем уравнен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ывается значение переменной, входящее в ОДЗ и обращающее уравнение в верное  числовое равенств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Решить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значит найти все его корни  (или доказать, что их нет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618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реди корней уравнения есть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ных между собой корней, то говорят о </a:t>
            </a:r>
            <a:r>
              <a:rPr b="0" lang="ru-RU" sz="3200" spc="-1" strike="noStrike">
                <a:solidFill>
                  <a:srgbClr val="009900"/>
                </a:solidFill>
                <a:latin typeface="Tahoma"/>
              </a:rPr>
              <a:t>корне крат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99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E03-3004-4CE6-B6C5-837595EDB7B9}" type="slidenum">
              <a:t>5</a:t>
            </a:fld>
          </a:p>
        </p:txBody>
      </p:sp>
    </p:spTree>
  </p:cSld>
  <p:transition advTm="14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Свойства уравнений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Если перенести слагаемое из одной части уравнения в другую, изменив при этом его знак, то получится уравнение, равносильное данно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Если обе части уравнения умножить или разделить на одно и то же число, неравное нулю, то получится уравнение, равносильное данно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9B4-22FE-460A-A189-7B2A9369EDF0}" type="slidenum">
              <a:t>6</a:t>
            </a:fld>
          </a:p>
        </p:txBody>
      </p:sp>
    </p:spTree>
  </p:cSld>
  <p:transition advTm="14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Свойства уравнений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Если в какой-либо части уравнения ( в обеих частях) выполнить тождественное преобразование, </a:t>
            </a:r>
            <a:r>
              <a:rPr b="0" i="1" lang="en-US" sz="3200" spc="-1" strike="noStrike">
                <a:solidFill>
                  <a:srgbClr val="009900"/>
                </a:solidFill>
                <a:latin typeface="Tahoma"/>
              </a:rPr>
              <a:t>не изменяющее ОДЗ уравнения,</a:t>
            </a: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 то получится уравнение, равносильное данно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шение уравнения, чаще всего, состоит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м, что с помощью цепочки преобразован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но приводится к простейшему уравнению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рни которого можно найти по извест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у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211-2B3A-442E-9019-066885C6AC2C}" type="slidenum">
              <a:t>7</a:t>
            </a:fld>
          </a:p>
        </p:txBody>
      </p:sp>
    </p:spTree>
  </p:cSld>
  <p:transition advTm="14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ичины потери корней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  Сужение ОДЗ в х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преобразований уравн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Если обе части уравнения разделить на выражение с переменной </a:t>
            </a:r>
            <a:r>
              <a:rPr b="1" i="1" lang="en-US" sz="3200" spc="-1" strike="noStrike">
                <a:solidFill>
                  <a:srgbClr val="009900"/>
                </a:solidFill>
                <a:latin typeface="Tahoma"/>
              </a:rPr>
              <a:t>m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4F8-F31A-4D1C-9D42-C48DF5938AB9}" type="slidenum">
              <a:t>8</a:t>
            </a:fld>
          </a:p>
        </p:txBody>
      </p:sp>
    </p:spTree>
  </p:cSld>
  <p:transition advTm="14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83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Причины потери корней   </a:t>
            </a: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(подробнее)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*Сужение ОДЗ в ходе пре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уравн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какие-то корни данного уравнения оказываются за пределами ОДЗ преобразованного уравнения, то они не могут быть получены в ходе решения  нового уравнения  и для данного уравнения они будут потеря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601-C74C-490A-BDD3-86DAD06AD81D}" type="slidenum">
              <a:t>9</a:t>
            </a:fld>
          </a:p>
        </p:txBody>
      </p:sp>
    </p:spTree>
  </p:cSld>
  <p:transition advTm="14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6:57:36Z</dcterms:created>
  <dc:creator>Грохотова Р.О.</dc:creator>
  <dc:description/>
  <dc:language>en-US</dc:language>
  <cp:lastModifiedBy>учитель</cp:lastModifiedBy>
  <dcterms:modified xsi:type="dcterms:W3CDTF">2011-01-30T13:06:33Z</dcterms:modified>
  <cp:revision>19</cp:revision>
  <dc:subject/>
  <dc:title>Педагогический университет «1 сентября» , г. Москва</dc:title>
</cp:coreProperties>
</file>